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9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F2FD-7894-4DEC-926B-D6A007CDB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ltu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DE68-C23E-49AF-B529-CDA78992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DEF-32C6-47F6-84E7-CBF8D5AF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B6A6-C01B-47D0-8FB6-29A306CB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96A-E51C-463F-97FF-65D108BC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8E1-DE44-4017-85BE-DB782925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BC1-B3AA-4ED4-8043-CEA40F0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411-F9DF-424E-A8D9-CA586678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672-0977-4F00-A437-FB3215AA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AAD-C60E-4E3A-A7C3-92385C54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B87-21C9-44AD-BE68-FCC2278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360-8CC9-43B2-B840-FBF92FF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E4A-515B-4872-9317-7512D9D2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AD7B-527A-4FD0-A897-5E0E37DE3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二零一零年三月十五日</a:t>
            </a:r>
            <a:r>
              <a:rPr b="1" lang="zh-TW" sz="2800" spc="-1" strike="noStrike">
                <a:solidFill>
                  <a:srgbClr val="c00000"/>
                </a:solidFill>
                <a:latin typeface="文鼎標準楷體"/>
                <a:ea typeface="文鼎標準楷體"/>
              </a:rPr>
              <a:t>星期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42640" y="714240"/>
            <a:ext cx="655308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過馬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rossing street 031510.jpg"/>
          <p:cNvPicPr/>
          <p:nvPr/>
        </p:nvPicPr>
        <p:blipFill>
          <a:blip r:embed="rId1"/>
          <a:stretch/>
        </p:blipFill>
        <p:spPr>
          <a:xfrm>
            <a:off x="285840" y="2857680"/>
            <a:ext cx="2476440" cy="2857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ross street 031510.jpg"/>
          <p:cNvPicPr/>
          <p:nvPr/>
        </p:nvPicPr>
        <p:blipFill>
          <a:blip r:embed="rId2"/>
          <a:stretch/>
        </p:blipFill>
        <p:spPr>
          <a:xfrm>
            <a:off x="6215040" y="3143160"/>
            <a:ext cx="2446200" cy="250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rossing road 031510.jpg"/>
          <p:cNvPicPr/>
          <p:nvPr/>
        </p:nvPicPr>
        <p:blipFill>
          <a:blip r:embed="rId3"/>
          <a:stretch/>
        </p:blipFill>
        <p:spPr>
          <a:xfrm>
            <a:off x="3000240" y="3214800"/>
            <a:ext cx="270828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raffic lights sign 031510.jpg"/>
          <p:cNvPicPr/>
          <p:nvPr/>
        </p:nvPicPr>
        <p:blipFill>
          <a:blip r:embed="rId4"/>
          <a:stretch/>
        </p:blipFill>
        <p:spPr>
          <a:xfrm>
            <a:off x="1071720" y="1285920"/>
            <a:ext cx="137160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字方塊 11"/>
          <p:cNvSpPr/>
          <p:nvPr/>
        </p:nvSpPr>
        <p:spPr>
          <a:xfrm>
            <a:off x="1000080" y="214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方向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(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direction)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6215040" y="542916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286240" y="1143000"/>
            <a:ext cx="10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3352680" y="3214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7995960" y="1714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17"/>
          <p:cNvSpPr/>
          <p:nvPr/>
        </p:nvSpPr>
        <p:spPr>
          <a:xfrm rot="7818600">
            <a:off x="6513840" y="4715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8"/>
          <p:cNvSpPr/>
          <p:nvPr/>
        </p:nvSpPr>
        <p:spPr>
          <a:xfrm rot="1341600">
            <a:off x="4883040" y="1626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4071960" y="30718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utoShape 20"/>
          <p:cNvSpPr/>
          <p:nvPr/>
        </p:nvSpPr>
        <p:spPr>
          <a:xfrm rot="14328000">
            <a:off x="7944120" y="2329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0" descr="direction sign 031510.jpg"/>
          <p:cNvPicPr/>
          <p:nvPr/>
        </p:nvPicPr>
        <p:blipFill>
          <a:blip r:embed="rId1"/>
          <a:stretch/>
        </p:blipFill>
        <p:spPr>
          <a:xfrm>
            <a:off x="428760" y="1071720"/>
            <a:ext cx="2457360" cy="2643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direction house 031510.jpg"/>
          <p:cNvPicPr/>
          <p:nvPr/>
        </p:nvPicPr>
        <p:blipFill>
          <a:blip r:embed="rId2"/>
          <a:stretch/>
        </p:blipFill>
        <p:spPr>
          <a:xfrm>
            <a:off x="4643280" y="2357280"/>
            <a:ext cx="3165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85480" y="5072040"/>
            <a:ext cx="86439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上有很多人</a:t>
            </a:r>
            <a:r>
              <a:rPr b="1" lang="zh-CN" sz="40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也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很多車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3429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71800" y="36576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905120" y="533520"/>
            <a:ext cx="397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造句練習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:</a:t>
            </a:r>
            <a:r>
              <a:rPr b="1" lang="en-US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馬路上有</a:t>
            </a:r>
            <a:r>
              <a:rPr b="1" lang="zh-CN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什麼？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…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550080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1213920"/>
            <a:ext cx="55008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34290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971800" y="36576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905120" y="533520"/>
            <a:ext cx="397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85840" y="214200"/>
            <a:ext cx="84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過</a:t>
            </a:r>
            <a:r>
              <a:rPr b="1" lang="en-US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馬路</a:t>
            </a:r>
            <a:r>
              <a:rPr b="1" lang="zh-CN" sz="4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要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…</a:t>
            </a:r>
            <a:r>
              <a:rPr b="1" lang="en-US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30280" y="1214280"/>
            <a:ext cx="234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過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要左看右看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8" descr="crosswalk 031510.jpg"/>
          <p:cNvPicPr/>
          <p:nvPr/>
        </p:nvPicPr>
        <p:blipFill>
          <a:blip r:embed="rId1"/>
          <a:stretch/>
        </p:blipFill>
        <p:spPr>
          <a:xfrm>
            <a:off x="5018040" y="2857680"/>
            <a:ext cx="3787920" cy="302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walkstop light 031510.jpg"/>
          <p:cNvPicPr/>
          <p:nvPr/>
        </p:nvPicPr>
        <p:blipFill>
          <a:blip r:embed="rId2"/>
          <a:stretch/>
        </p:blipFill>
        <p:spPr>
          <a:xfrm>
            <a:off x="6429240" y="3571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pedestrians 031510.jpg"/>
          <p:cNvPicPr/>
          <p:nvPr/>
        </p:nvPicPr>
        <p:blipFill>
          <a:blip r:embed="rId3"/>
          <a:stretch/>
        </p:blipFill>
        <p:spPr>
          <a:xfrm>
            <a:off x="571680" y="4429080"/>
            <a:ext cx="2714400" cy="2044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1"/>
          <p:cNvSpPr/>
          <p:nvPr/>
        </p:nvSpPr>
        <p:spPr>
          <a:xfrm>
            <a:off x="2187000" y="2214720"/>
            <a:ext cx="8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媽媽和小孩一起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399320" y="3500280"/>
            <a:ext cx="23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走在我們的後面</a:t>
            </a:r>
            <a:r>
              <a:rPr b="1" lang="zh-TW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71840" y="6215040"/>
            <a:ext cx="657216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dependent practice: what do you see on the way to sch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28760" y="1643040"/>
            <a:ext cx="292896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沒有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但是有</a:t>
            </a: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1"/>
          <a:stretch/>
        </p:blipFill>
        <p:spPr>
          <a:xfrm>
            <a:off x="3857760" y="1571760"/>
            <a:ext cx="4500360" cy="4041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4"/>
          <p:cNvSpPr/>
          <p:nvPr/>
        </p:nvSpPr>
        <p:spPr>
          <a:xfrm>
            <a:off x="4919400" y="357120"/>
            <a:ext cx="242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上有很多狗嗎</a:t>
            </a:r>
            <a:r>
              <a:rPr b="1" lang="zh-TW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71840" y="6215040"/>
            <a:ext cx="657216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ndependent practice: what do you see on the way to schoo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571320" y="4286160"/>
            <a:ext cx="80010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       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是不是學校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    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不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不是學校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,</a:t>
            </a:r>
            <a:r>
              <a:rPr b="1" lang="zh-TW" sz="2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是公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"/>
          <p:cNvPicPr/>
          <p:nvPr/>
        </p:nvPicPr>
        <p:blipFill>
          <a:blip r:embed="rId1"/>
          <a:stretch/>
        </p:blipFill>
        <p:spPr>
          <a:xfrm>
            <a:off x="3857760" y="357120"/>
            <a:ext cx="4000320" cy="3592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1198440" y="4287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413000" y="2428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後</a:t>
            </a:r>
            <a:r>
              <a:rPr b="1" lang="zh-TW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面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30477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Cultur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928800" y="1000080"/>
            <a:ext cx="5443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路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馬路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看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看</a:t>
            </a:r>
            <a:r>
              <a:rPr b="1" lang="en-US" sz="4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616480" y="2928960"/>
            <a:ext cx="220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文鼎標楷下漢語寬拼音C1"/>
                <a:ea typeface="文鼎標楷下漢語寬拼音C1"/>
              </a:rPr>
              <a:t>Closure</a:t>
            </a:r>
            <a:r>
              <a:rPr b="1" lang="en-US" sz="3200" spc="-1" strike="noStrike">
                <a:solidFill>
                  <a:srgbClr val="ff0000"/>
                </a:solidFill>
                <a:latin typeface="文鼎標楷下漢語寬拼音C1"/>
                <a:ea typeface="文鼎標楷下漢語寬拼音C1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06880" y="5715000"/>
            <a:ext cx="54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Sing along with texbook E-pen #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4143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destrian crossing = 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PED XING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班馬線   </a:t>
            </a:r>
            <a:r>
              <a:rPr b="1" lang="en-US" sz="3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bān mǎ x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下漢語寬拼音C1"/>
                <a:ea typeface="文鼎標楷下漢語寬拼音C1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人行道    </a:t>
            </a:r>
            <a:r>
              <a:rPr b="1" lang="en-US" sz="3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xíng rén dà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642960" y="3929040"/>
            <a:ext cx="3429000" cy="24876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5643720" y="3143160"/>
            <a:ext cx="2395440" cy="315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6310440" y="571680"/>
            <a:ext cx="2833560" cy="24462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19"/>
          <p:cNvSpPr/>
          <p:nvPr/>
        </p:nvSpPr>
        <p:spPr>
          <a:xfrm rot="16636800">
            <a:off x="1478520" y="3996360"/>
            <a:ext cx="2408400" cy="485640"/>
          </a:xfrm>
          <a:prstGeom prst="leftArrow">
            <a:avLst>
              <a:gd name="adj1" fmla="val 50000"/>
              <a:gd name="adj2" fmla="val 50281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19"/>
          <p:cNvSpPr/>
          <p:nvPr/>
        </p:nvSpPr>
        <p:spPr>
          <a:xfrm rot="12697200">
            <a:off x="5212800" y="1920600"/>
            <a:ext cx="1742760" cy="485640"/>
          </a:xfrm>
          <a:prstGeom prst="leftArrow">
            <a:avLst>
              <a:gd name="adj1" fmla="val 50000"/>
              <a:gd name="adj2" fmla="val 50224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28800" y="5285880"/>
            <a:ext cx="7500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</a:t>
            </a: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他們在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做什麼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M:\lesson 6\1.jpg"/>
          <p:cNvPicPr/>
          <p:nvPr/>
        </p:nvPicPr>
        <p:blipFill>
          <a:blip r:embed="rId1"/>
          <a:stretch/>
        </p:blipFill>
        <p:spPr>
          <a:xfrm>
            <a:off x="2357280" y="500040"/>
            <a:ext cx="4467240" cy="44672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357120" y="214200"/>
            <a:ext cx="45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他們是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誰</a:t>
            </a:r>
            <a:r>
              <a:rPr b="1" lang="zh-TW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M:\lesson 6\2.jpg"/>
          <p:cNvPicPr/>
          <p:nvPr/>
        </p:nvPicPr>
        <p:blipFill>
          <a:blip r:embed="rId1"/>
          <a:stretch/>
        </p:blipFill>
        <p:spPr>
          <a:xfrm>
            <a:off x="1857240" y="214200"/>
            <a:ext cx="5043600" cy="3884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2820960" y="4286160"/>
            <a:ext cx="2192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她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在哪裏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她要</a:t>
            </a:r>
            <a:r>
              <a:rPr b="1" lang="zh-TW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做什麼</a:t>
            </a: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286240"/>
            <a:ext cx="60008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你看到什麼？</a:t>
            </a:r>
            <a:br>
              <a:rPr sz="4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9" descr="M:\lesson 6\3.jpg"/>
          <p:cNvPicPr/>
          <p:nvPr/>
        </p:nvPicPr>
        <p:blipFill>
          <a:blip r:embed="rId1"/>
          <a:stretch/>
        </p:blipFill>
        <p:spPr>
          <a:xfrm>
            <a:off x="4000680" y="500040"/>
            <a:ext cx="4857480" cy="48578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1545840" y="428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說說看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642840" y="285840"/>
            <a:ext cx="5000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100"/>
            </a:br>
            <a:r>
              <a:rPr b="1" lang="en-US" sz="61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過馬路</a:t>
            </a:r>
            <a:br>
              <a:rPr sz="6100"/>
            </a:b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000080" y="3786120"/>
            <a:ext cx="3124080" cy="24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2"/>
          <a:stretch/>
        </p:blipFill>
        <p:spPr>
          <a:xfrm>
            <a:off x="4286160" y="2714760"/>
            <a:ext cx="4262400" cy="3679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5632560" y="142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一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traffic ligths 031510.jpg"/>
          <p:cNvPicPr/>
          <p:nvPr/>
        </p:nvPicPr>
        <p:blipFill>
          <a:blip r:embed="rId3"/>
          <a:stretch/>
        </p:blipFill>
        <p:spPr>
          <a:xfrm>
            <a:off x="1785960" y="357120"/>
            <a:ext cx="1639800" cy="3114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900000" y="0"/>
            <a:ext cx="51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356920" y="214200"/>
            <a:ext cx="3643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小心</a:t>
            </a:r>
            <a:r>
              <a:rPr b="1" lang="en-US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500040" y="2786040"/>
            <a:ext cx="3521160" cy="3506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 careful snakes 031510.jpg"/>
          <p:cNvPicPr/>
          <p:nvPr/>
        </p:nvPicPr>
        <p:blipFill>
          <a:blip r:embed="rId2"/>
          <a:stretch/>
        </p:blipFill>
        <p:spPr>
          <a:xfrm>
            <a:off x="4572000" y="2571840"/>
            <a:ext cx="4411800" cy="351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be careful fall 031510.jpg"/>
          <p:cNvPicPr/>
          <p:nvPr/>
        </p:nvPicPr>
        <p:blipFill>
          <a:blip r:embed="rId3"/>
          <a:stretch/>
        </p:blipFill>
        <p:spPr>
          <a:xfrm>
            <a:off x="5857920" y="214200"/>
            <a:ext cx="3103560" cy="235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caution 031510.jpg"/>
          <p:cNvPicPr/>
          <p:nvPr/>
        </p:nvPicPr>
        <p:blipFill>
          <a:blip r:embed="rId4"/>
          <a:stretch/>
        </p:blipFill>
        <p:spPr>
          <a:xfrm>
            <a:off x="642960" y="285840"/>
            <a:ext cx="142884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571480" y="213840"/>
            <a:ext cx="3500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look left chinese 031510.jpg"/>
          <p:cNvPicPr/>
          <p:nvPr/>
        </p:nvPicPr>
        <p:blipFill>
          <a:blip r:embed="rId1"/>
          <a:stretch/>
        </p:blipFill>
        <p:spPr>
          <a:xfrm>
            <a:off x="5286240" y="2214720"/>
            <a:ext cx="3000600" cy="398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turn left sign 031510.jpg"/>
          <p:cNvPicPr/>
          <p:nvPr/>
        </p:nvPicPr>
        <p:blipFill>
          <a:blip r:embed="rId2"/>
          <a:stretch/>
        </p:blipFill>
        <p:spPr>
          <a:xfrm>
            <a:off x="6643800" y="285840"/>
            <a:ext cx="1743120" cy="1314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look left 1 031510.jpg"/>
          <p:cNvPicPr/>
          <p:nvPr/>
        </p:nvPicPr>
        <p:blipFill>
          <a:blip r:embed="rId3"/>
          <a:stretch/>
        </p:blipFill>
        <p:spPr>
          <a:xfrm>
            <a:off x="1143000" y="1571760"/>
            <a:ext cx="3129120" cy="2357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look left sign 031510.jpg"/>
          <p:cNvPicPr/>
          <p:nvPr/>
        </p:nvPicPr>
        <p:blipFill>
          <a:blip r:embed="rId4"/>
          <a:stretch/>
        </p:blipFill>
        <p:spPr>
          <a:xfrm>
            <a:off x="785880" y="4214880"/>
            <a:ext cx="37861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357120" y="428760"/>
            <a:ext cx="35006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 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4357800" y="3786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look left sign 031510.jpg"/>
          <p:cNvPicPr/>
          <p:nvPr/>
        </p:nvPicPr>
        <p:blipFill>
          <a:blip r:embed="rId2"/>
          <a:stretch/>
        </p:blipFill>
        <p:spPr>
          <a:xfrm>
            <a:off x="285840" y="1714680"/>
            <a:ext cx="4078080" cy="3071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traffic ligths 031510.jpg"/>
          <p:cNvPicPr/>
          <p:nvPr/>
        </p:nvPicPr>
        <p:blipFill>
          <a:blip r:embed="rId3"/>
          <a:stretch/>
        </p:blipFill>
        <p:spPr>
          <a:xfrm>
            <a:off x="7000920" y="214200"/>
            <a:ext cx="1639800" cy="3114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5972040" y="142920"/>
            <a:ext cx="5158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2" descr="turn right sign 031510.jpg"/>
          <p:cNvPicPr/>
          <p:nvPr/>
        </p:nvPicPr>
        <p:blipFill>
          <a:blip r:embed="rId4"/>
          <a:stretch/>
        </p:blipFill>
        <p:spPr>
          <a:xfrm>
            <a:off x="1214280" y="4929120"/>
            <a:ext cx="2351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文字方塊 11"/>
          <p:cNvSpPr/>
          <p:nvPr/>
        </p:nvSpPr>
        <p:spPr>
          <a:xfrm>
            <a:off x="1000080" y="214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     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方向</a:t>
            </a: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(</a:t>
            </a:r>
            <a:r>
              <a:rPr b="1" lang="en-US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direction)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143760" y="14288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6018120" y="5121360"/>
            <a:ext cx="105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4138560" y="3071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8067600" y="31431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c00000"/>
                </a:solidFill>
                <a:latin typeface="文鼎標楷下漢語寬拼音C1"/>
                <a:ea typeface="文鼎標楷下漢語寬拼音C1"/>
              </a:rPr>
              <a:t>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utoShape 17"/>
          <p:cNvSpPr/>
          <p:nvPr/>
        </p:nvSpPr>
        <p:spPr>
          <a:xfrm>
            <a:off x="7048440" y="3257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18"/>
          <p:cNvSpPr/>
          <p:nvPr/>
        </p:nvSpPr>
        <p:spPr>
          <a:xfrm>
            <a:off x="6286680" y="25718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utoShape 19"/>
          <p:cNvSpPr/>
          <p:nvPr/>
        </p:nvSpPr>
        <p:spPr>
          <a:xfrm>
            <a:off x="5143680" y="3257640"/>
            <a:ext cx="975960" cy="485640"/>
          </a:xfrm>
          <a:prstGeom prst="leftArrow">
            <a:avLst>
              <a:gd name="adj1" fmla="val 50000"/>
              <a:gd name="adj2" fmla="val 50241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20"/>
          <p:cNvSpPr/>
          <p:nvPr/>
        </p:nvSpPr>
        <p:spPr>
          <a:xfrm>
            <a:off x="6303960" y="3763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direction sign 031510.jpg"/>
          <p:cNvPicPr/>
          <p:nvPr/>
        </p:nvPicPr>
        <p:blipFill>
          <a:blip r:embed="rId1"/>
          <a:stretch/>
        </p:blipFill>
        <p:spPr>
          <a:xfrm>
            <a:off x="500040" y="357120"/>
            <a:ext cx="2855880" cy="307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directions 031510.jpg"/>
          <p:cNvPicPr/>
          <p:nvPr/>
        </p:nvPicPr>
        <p:blipFill>
          <a:blip r:embed="rId2"/>
          <a:stretch/>
        </p:blipFill>
        <p:spPr>
          <a:xfrm>
            <a:off x="785880" y="371484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9:55:18Z</dcterms:created>
  <dc:creator>Monica</dc:creator>
  <dc:description/>
  <dc:language>en-US</dc:language>
  <cp:lastModifiedBy>Monica</cp:lastModifiedBy>
  <dcterms:modified xsi:type="dcterms:W3CDTF">2010-03-15T19:57:09Z</dcterms:modified>
  <cp:revision>1</cp:revision>
  <dc:subject/>
  <dc:title>二零一零年三月十五日星期一</dc:title>
</cp:coreProperties>
</file>